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780-7CC7-474E-A6C9-3D6CCC1A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althadviceonline.biz/elken-mrt/step-4-health-regulation/the-organ-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knowledge.allianz.com/demography/health/?696/medical-breakthroughs-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nationalgeographic.com/science/photos/human-body-upgrad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morylossonline.com/glossary/magneticresonanceimag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arcaro.wordpress.com/11th/biology/the-cell-and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heartburn-gerd/your-digestive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easespictures.com/circulatory-syste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myhealth.alberta.ca/health/pages/conditions.aspx?hwid=ug2841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-views.com/X-RAY/Typ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amberusa.com/equipment_ct_scanner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ytalk1.com/ct-scan-technolog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8EC-542C-4256-A8B3-93BB9B61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999-08BA-44DB-8698-E5A87138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C9D-A113-4B3D-A6D8-F3B30F5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F6A-C581-4A2C-B04F-F79CA31F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1A4-6AB3-4453-B167-ADD2570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5ED-1D64-47F8-B13E-718736C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AB3-E506-4183-86F6-E1CC490A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CDC-27AC-4373-AB66-D8E110EB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2C3-7691-41E8-A42E-32060C14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0F9-DF9B-4779-82E5-51340BD1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009-3E43-4C17-9FFE-477D3C4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A8A-F282-4794-9EF9-07A6CCE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C0D2-5E66-44A6-8049-28E945E2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4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 Resonance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, tissues, orga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, connective, muscle,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, kidneys, hea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7680" y="1981080"/>
            <a:ext cx="684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4560" y="1981080"/>
            <a:ext cx="45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3676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90760" y="1981080"/>
            <a:ext cx="436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04:00Z</dcterms:created>
  <dc:creator>rubina khan</dc:creator>
  <dc:description/>
  <dc:language>en-US</dc:language>
  <cp:lastModifiedBy>rubina khan</cp:lastModifiedBy>
  <dcterms:modified xsi:type="dcterms:W3CDTF">2012-11-21T17:32:19Z</dcterms:modified>
  <cp:revision>13</cp:revision>
  <dc:subject/>
  <dc:title>Organ Systems</dc:title>
</cp:coreProperties>
</file>